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6A3-366B-4DE0-A56A-499F31A4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11B-EC43-4A1D-AD0F-13643730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79F-72E9-46CB-A050-3EDBA7A6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A90-953E-4AEC-AB54-9DFC6C1D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677C-2E86-4851-8202-E71C5129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C862-B64E-484B-B94A-7A7320B7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F62A-1FCD-407C-9E53-5FB6D662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C5E0-1C48-4565-AD99-35090AB4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7905-D177-4BEC-BF5B-1B57E33F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C45F-1651-44B9-AD12-8FB34A8C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6CA7-063E-4969-9302-91492310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48B-06AC-454D-B307-03DCC23D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7215-8108-43C8-BBFA-2BCF42B6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7E0E-1D8C-4202-A0E6-7528D7EC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93E2-3429-47CB-88C1-D12D3ECE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0CA9-9EB1-4756-815A-0648F437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65CE-223C-42AF-A0BA-353AFAA7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A8A8-4370-4E33-A2BA-DFC46868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EAA0-7191-4A36-9363-392966D5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B900-B196-4206-A957-B0FFDE97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6210-EC96-4562-9A44-BE2CA820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E565-C252-4D99-B5F8-D7C93555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883-ED8B-43DB-ACCB-0DA9F6FB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5D52-5016-47C2-9B8F-5EBD63EB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CEC0-63E7-4B36-B67D-4D5AB33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0328-7041-497E-BBA9-62B826E9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0E70-68B0-4F54-A42B-4BDF5617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A058-0D97-4119-8357-00A8E4DB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4DFD-95DB-4D2F-A337-587DD628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38C8-2F46-4571-A144-2AD653A9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71764-C90F-4DB2-B371-CE7F7679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612C1-F03A-47E8-81AF-688E3FE2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5048-357C-4CBE-8F79-CEA07D71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72F-0AB9-4198-98C6-406B7638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1B8E-A20D-4936-8D69-2B969C77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8EDF-EC70-4620-8C01-6B61F94F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4486E-B374-4A8E-B175-DE832A99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BB4F-7B51-4483-8380-1B85A2EB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0200-7B36-4DEF-B5DF-5FB30955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4A64F-926C-400B-98D2-8D8F8EF3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EBC8-AC30-4DB3-8A84-8E385309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34C4-09C5-41DA-90E4-00DFD3B2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E6CD7-302C-45B7-B1A3-15688F53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6CE2E-EB8A-4EC8-B722-7F23EF76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320-1AD0-4C37-9325-664A837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70B45-55DE-4330-8368-CC9F27DB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E51BE-0C33-4BA2-B51F-6E063CBA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6478-5FEA-4B15-9DE1-E55D0040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11051-DD00-4484-996C-786471D3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24B5A-3542-4B69-9DF2-625EF5AA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AECBD-C005-4A69-ABD7-7317C33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D7535-8EAC-46AD-87C2-05EB1F8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27E04-0378-41D3-BE8F-4FF55EBA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C44CC-3D53-409B-A018-B5595FA2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7E6F-EB4C-432B-A8C7-D91EAD9C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5CD-D07D-412F-A50D-7BD75CF3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0DF22-A59F-46C3-B236-6BD56D74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3FCE8-00A5-4CB6-843D-F9A3E887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A98DF-6174-4F26-A17F-6CD71925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B1647-53DE-4234-9AC8-A9654AF5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A3391-6A36-4634-B877-C93345A9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DE4B8-25F2-48F8-8D4B-E728284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2949F-4457-4776-BF7E-664D5A50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5BDD-86F6-4A99-8ADD-83436DC3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2F244-5A88-4009-A85F-71B9336B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0340-BAC0-4F4C-9C76-1C50D73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6B5-B888-49F0-87C7-A46706E1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FC944-6AFF-4D8F-A604-FF7B284B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B3463-2020-4FFA-9505-88C1D18D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641AA-4018-4D77-A3A7-F292B22E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77EA-5DCA-46D4-9A4B-9260C76C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38DD8-1D26-403B-9E03-BC5D14DE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95F7-7FB6-4603-AAF8-A847D3C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F02FF-E48B-4496-8C02-CE294CB2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EB3D9-193B-475B-B256-8C4EAA8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3CB93-5A3C-4916-B2E3-BF3F1E6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B04C0-2BD4-4E90-9748-8C53747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63D-B122-41BC-AF21-51B7BED8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A1447-CD1A-42E3-924D-3885C36E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53C5D-0454-4487-844D-D002652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1734B-741E-4D13-869F-DF5E86E3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66C33-86C8-44CA-847E-B4D189C8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92DAB-8094-47CF-AB1D-7DBC8D88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F99DF-159F-40B1-AE15-6F771A14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62733-697D-4D78-B9BE-F87A40DC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BC7B5-230B-4243-841A-B2162635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2DE99-E2A5-4B11-9CBE-3308AA7F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32B17-36D6-44C7-9F55-B469EECC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39F-D662-4C91-B961-0DF93682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9DA90-208C-4E36-8D62-42451052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4E4FC-3CD1-44FE-AB9D-F00967C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06C8C-E020-4B07-AAC4-5CA16484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D9329-017E-4997-AA48-41F2B015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CD7A7-517F-459D-909C-5C724908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1CAA1-A6C6-4C21-862E-1341654F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07D21-295E-4E0F-AA9E-F3A5A086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2544-74D4-41A8-899D-3BB6B8B627C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8502-DF31-43AF-B52B-04CA9FAEE0F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97A4-3501-4A51-A96F-F222817AE40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8667-E352-4724-AA7D-49CD462DA98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E3D3-63D6-4B31-A4E6-C7083874D70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56CE-3E54-4FDD-91E0-7EE30432DF1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1498-2225-4663-B274-9CF8E6E872E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F3E5-1D28-4947-A247-9DF36796199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John Knowles’ </a:t>
            </a:r>
            <a:r>
              <a:rPr b="0" i="1" lang="en-US" sz="2900" spc="-1" strike="noStrike">
                <a:solidFill>
                  <a:srgbClr val="000000"/>
                </a:solidFill>
                <a:latin typeface="Bookman Old Style"/>
              </a:rPr>
              <a:t>A Separate Peace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Chapters 1-3 Not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Sophomore Englis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es the narrator’s position of an adult looking back on the incident from his youth with greater wisdom and matu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lthough not officially spoken, his narrative is filled with a mood of dread (“death by violence”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ne to foreshadow the events ahead at the two spo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 returns as an adult in hopes to see that time has changed Devon and himself from his you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Worries that the school is the same until he sees the tre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fraid that the passage of time didn’t change the school, and it didn’t change him either – fear that he has not become “better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1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rrative jumps back to the 1940’s and a younger Ge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The narrative shifts between old Gene and young Gene (makes for an unreliable narrator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We must read through the lines of Gen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ationship between Gene and Finny seems simple yet with darker underto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ny has control over Gene by making him do things he doesn’t want to do – jump out of the tree; wrestl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Gene is often annoyed at Finny and his characteristic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’s envy is developed more ful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es his best friend get out of trouble twi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ds this disappointing (only because he wanted excitement – unreliable narrator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 seems to admire and resent Finn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lthough Gene cares for him, he is conflicted because he is also enviou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is speech about being “honored” to be Finny’s best friend is forced; he must keep the façade goin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jor Conflict:  Man vs. Self - Internal conflict within Gene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2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though Finny saves Gene’s life, Gene is still conflicted in his feelings towards Fin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as a difficult time convincing himself that he doesn’t want to see Finny punished or harm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y?  Finny likes to show his superiority over oth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mping out of the tree fir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tting out of trouble with the faculty at Dev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3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create the Super Suicide Society of the Summer Ses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ny desires to have a society that all can enter into (and he be the leader of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ny likes competition and enjoys being the bes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itzb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omes from the term “blitzkrieg” meaning “lightning war”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ld War II still in the background of the no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ny is the best at it although no one wins the game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mbolizes his attitude on life (there are no winners/lose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3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racter Flaws of Gene and Fin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Finny:  worldview focuses on his own desires and does not see what others (like Gene) might want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2" marL="78084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r instance, Gene is expected to jump from the tree because of Finny’s rule (Finny never asks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Gene:  unable to say “no” to Finny; thus, Finny never knows how Gene feel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2" marL="78084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tems from a larger problem in that Gene has a difficult time determining his identity (and will almost wish to become Finny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mmer Session – the last part of innocence in lif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y have the ability to run free in their paradise (like the Garden of Eden); represents the last stages of innocence before Adam and Eve’s fall from innocence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3:46:05Z</dcterms:created>
  <dc:creator>TPS</dc:creator>
  <dc:description/>
  <dc:language>en-US</dc:language>
  <cp:lastModifiedBy>TPS</cp:lastModifiedBy>
  <dcterms:modified xsi:type="dcterms:W3CDTF">2009-04-21T17:12:29Z</dcterms:modified>
  <cp:revision>16</cp:revision>
  <dc:subject/>
  <dc:title>John Knowles’ A Separate Peace Chapters 1-3 Notes</dc:title>
</cp:coreProperties>
</file>